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97845-2581-44FD-A8D7-35DEF8CBEA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76423-45FA-439C-A09C-BA64780233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16D71-DACF-4F59-891C-4B64A1957E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A799C-119B-43F7-9A37-7F5C2A3B70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4D150-9C00-464C-A74C-69E863C889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B23A3-0D45-4B83-8352-FF3BB84128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1413B-D266-4916-AD9F-483220E86B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4B590-D555-47C8-9350-3774CC8762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3E96A-DB11-4F3C-8262-FC3580DE2F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3EB9-C5CC-4DAD-B0CD-FCF940946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CED7-90E1-4D30-AB26-FCCCB90EA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88C5-1063-437B-B0CB-5EA175D4F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E410-0F85-4EDC-BF3C-7CA70ACDD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A76B-618D-4A54-BD4A-25D6F1702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925C-15EC-46BF-AB34-AC54265D0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5B19-B276-4117-B086-35D255649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ED22-5784-4183-8F9B-E18CEE84D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8E9E-A7DD-4694-BCE4-A687D4B3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C08F-0025-4ED4-8562-249FADB9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49C6-88B2-4D08-A598-9901C163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4A1B-56DB-464A-B786-70F8FD46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1DE0C-F320-433B-9638-AB9BCA2D96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2"/>
          <p:cNvSpPr/>
          <p:nvPr/>
        </p:nvSpPr>
        <p:spPr>
          <a:xfrm>
            <a:off x="609480" y="1752480"/>
            <a:ext cx="7239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hancing partnership among Africa RISING, NAFAKA and TUBORESHE CHAKULA Programs for fast-tracking delivery and scaling of agricultural technologies in Tanz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educed food waste and spoil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rahim Shabani, Abass Adebay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briel Ndungu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rica RISING annual planning Meet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ULY,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te Sand Hotel, Dar es sala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33160" y="1294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ill Sans"/>
              </a:rPr>
              <a:t>Expansion and operational issue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685800" y="2209680"/>
            <a:ext cx="7086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st harvest activities will continue in the three first distri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ctivities will be conducted in the new locations: Iringa and Mbe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150000"/>
              </a:lnSpc>
              <a:buClr>
                <a:srgbClr val="000000"/>
              </a:buClr>
              <a:buFont typeface="Symbol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Iringa rural district, Irin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150000"/>
              </a:lnSpc>
              <a:buClr>
                <a:srgbClr val="000000"/>
              </a:buClr>
              <a:buFont typeface="Symbol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bozi district, Mbe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ew crops to be added to maize (Soybeans, Be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ntegration &amp; synchronization of activities with other tea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160" y="1294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ill Sans"/>
              </a:rPr>
              <a:t>POSSIBLE SCOPE OF WOR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685800" y="220968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838080" y="1981080"/>
            <a:ext cx="7010640" cy="65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POSTHARVEST HANDLING, LOSS PREVENTION &amp;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stharvest handling/processing/storage activities of other crops (legumes) will be added to the current crop – maiz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(shelling, dehulling, milling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Drying technologies (e.g. use of dryer ca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Hermetic storage 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IC and/or Grain safe bags (100kg b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Large capacity storage facilities (community storage bags – 1MT, 2MT per ba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3160" y="1294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ill Sans"/>
              </a:rPr>
              <a:t>POSSIBLE SCOPE OF WOR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685800" y="220968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838080" y="1981080"/>
            <a:ext cx="70106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ADDING VALUE/NEW METHODS OF UTI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Farmers’ training on new methods of utilization of cereals &amp; legumes such as soybeans (e.g. dehulling, soymilk 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Recipes for complementary foods and training of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unity level service providers in delivering nutrition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hancing the capacity of households to access and consume nutrient–dense foods through improved nutrition knowledge, perceptions and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MP for processors of maize flour &amp; fort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sticide residue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533160" y="1294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ill Sans"/>
              </a:rPr>
              <a:t>POSSIBLE SCOPE OF WOR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685800" y="220968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304920" y="1981080"/>
            <a:ext cx="8305560" cy="73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EARLY ASSESSMENT OF POSSIBLE ADOPTION OF INTRODUCED CROP VARIE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Evaluating the acceptability of new crop varieties introduced to the farmers by capturing information on consumer/end-use quality traits, nutrient density, etc. of the new varieties vs local varie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Maize extraction rate; soybean ease of cooking /milk yield;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Purpose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to establish potential for adoption (disaggregated by location and possibly by end-use categor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33160" y="1294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Implications of expansion and operational issu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685800" y="220968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304920" y="1981080"/>
            <a:ext cx="8305560" cy="85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byFarmers’ dialogue in the new locations to identify the most critical postharvest constraints of the farmers &amp; training on those aspects (e.g. PH issues identified in Mar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ynchronizing some postharvest activities with the other project teams require joint planning and operationalization of the plans(e.g. field days or training after the crops are harvested; same project locations/ same farmers’ group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33160" y="1294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Implications of expansion and operational issu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685800" y="220968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304920" y="1981080"/>
            <a:ext cx="8305560" cy="9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Change of plan mid-season needs to be jointly understood and agreed by all the t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Expansion to new locations may mean increase in cost of project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Expansion may also reduce the time to be spent working with farmers in each location – may become inadequate for adoption to occur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533160" y="1294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ill Sans"/>
              </a:rPr>
              <a:t>THANK YOU AL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2"/>
          <p:cNvSpPr/>
          <p:nvPr/>
        </p:nvSpPr>
        <p:spPr>
          <a:xfrm>
            <a:off x="685800" y="220968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304920" y="1981080"/>
            <a:ext cx="830556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8T17:24:16Z</dcterms:created>
  <dc:creator>Kinyoro Ibrahim</dc:creator>
  <dc:description/>
  <dc:language>en-US</dc:language>
  <cp:lastModifiedBy>Kinyoro Ibrahim</cp:lastModifiedBy>
  <dcterms:modified xsi:type="dcterms:W3CDTF">2015-07-09T05:55:00Z</dcterms:modified>
  <cp:revision>11</cp:revision>
  <dc:subject/>
  <dc:title>Slide 1</dc:title>
</cp:coreProperties>
</file>